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  <p:sldId id="317" r:id="rId83"/>
    <p:sldId id="318" r:id="rId84"/>
    <p:sldId id="319" r:id="rId85"/>
    <p:sldId id="320" r:id="rId86"/>
    <p:sldId id="321" r:id="rId87"/>
    <p:sldId id="322" r:id="rId88"/>
    <p:sldId id="323" r:id="rId89"/>
    <p:sldId id="324" r:id="rId90"/>
    <p:sldId id="325" r:id="rId91"/>
    <p:sldId id="326" r:id="rId92"/>
    <p:sldId id="327" r:id="rId93"/>
    <p:sldId id="328" r:id="rId94"/>
    <p:sldId id="329" r:id="rId95"/>
    <p:sldId id="330" r:id="rId96"/>
    <p:sldId id="331" r:id="rId97"/>
    <p:sldId id="332" r:id="rId98"/>
    <p:sldId id="333" r:id="rId99"/>
    <p:sldId id="334" r:id="rId100"/>
    <p:sldId id="335" r:id="rId101"/>
    <p:sldId id="336" r:id="rId102"/>
    <p:sldId id="337" r:id="rId103"/>
    <p:sldId id="338" r:id="rId104"/>
    <p:sldId id="339" r:id="rId105"/>
    <p:sldId id="340" r:id="rId106"/>
    <p:sldId id="341" r:id="rId107"/>
    <p:sldId id="342" r:id="rId108"/>
    <p:sldId id="343" r:id="rId109"/>
    <p:sldId id="344" r:id="rId110"/>
    <p:sldId id="345" r:id="rId111"/>
    <p:sldId id="346" r:id="rId112"/>
    <p:sldId id="347" r:id="rId113"/>
    <p:sldId id="348" r:id="rId114"/>
    <p:sldId id="349" r:id="rId115"/>
    <p:sldId id="350" r:id="rId116"/>
    <p:sldId id="351" r:id="rId117"/>
    <p:sldId id="352" r:id="rId118"/>
    <p:sldId id="353" r:id="rId119"/>
    <p:sldId id="354" r:id="rId120"/>
    <p:sldId id="355" r:id="rId121"/>
    <p:sldId id="356" r:id="rId122"/>
    <p:sldId id="357" r:id="rId123"/>
    <p:sldId id="358" r:id="rId124"/>
    <p:sldId id="359" r:id="rId125"/>
    <p:sldId id="360" r:id="rId126"/>
    <p:sldId id="361" r:id="rId127"/>
    <p:sldId id="362" r:id="rId128"/>
    <p:sldId id="363" r:id="rId129"/>
    <p:sldId id="364" r:id="rId130"/>
    <p:sldId id="365" r:id="rId131"/>
    <p:sldId id="366" r:id="rId132"/>
    <p:sldId id="367" r:id="rId133"/>
    <p:sldId id="368" r:id="rId134"/>
    <p:sldId id="369" r:id="rId135"/>
    <p:sldId id="370" r:id="rId136"/>
    <p:sldId id="371" r:id="rId137"/>
    <p:sldId id="372" r:id="rId138"/>
    <p:sldId id="373" r:id="rId139"/>
    <p:sldId id="374" r:id="rId140"/>
    <p:sldId id="375" r:id="rId141"/>
    <p:sldId id="376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slide" Target="slides/slide62.xml"/><Relationship Id="rId84" Type="http://schemas.openxmlformats.org/officeDocument/2006/relationships/slide" Target="slides/slide63.xml"/><Relationship Id="rId85" Type="http://schemas.openxmlformats.org/officeDocument/2006/relationships/slide" Target="slides/slide64.xml"/><Relationship Id="rId86" Type="http://schemas.openxmlformats.org/officeDocument/2006/relationships/slide" Target="slides/slide65.xml"/><Relationship Id="rId87" Type="http://schemas.openxmlformats.org/officeDocument/2006/relationships/slide" Target="slides/slide66.xml"/><Relationship Id="rId88" Type="http://schemas.openxmlformats.org/officeDocument/2006/relationships/slide" Target="slides/slide67.xml"/><Relationship Id="rId89" Type="http://schemas.openxmlformats.org/officeDocument/2006/relationships/slide" Target="slides/slide68.xml"/><Relationship Id="rId90" Type="http://schemas.openxmlformats.org/officeDocument/2006/relationships/slide" Target="slides/slide69.xml"/><Relationship Id="rId91" Type="http://schemas.openxmlformats.org/officeDocument/2006/relationships/slide" Target="slides/slide70.xml"/><Relationship Id="rId92" Type="http://schemas.openxmlformats.org/officeDocument/2006/relationships/slide" Target="slides/slide71.xml"/><Relationship Id="rId93" Type="http://schemas.openxmlformats.org/officeDocument/2006/relationships/slide" Target="slides/slide72.xml"/><Relationship Id="rId94" Type="http://schemas.openxmlformats.org/officeDocument/2006/relationships/slide" Target="slides/slide73.xml"/><Relationship Id="rId95" Type="http://schemas.openxmlformats.org/officeDocument/2006/relationships/slide" Target="slides/slide74.xml"/><Relationship Id="rId96" Type="http://schemas.openxmlformats.org/officeDocument/2006/relationships/slide" Target="slides/slide75.xml"/><Relationship Id="rId97" Type="http://schemas.openxmlformats.org/officeDocument/2006/relationships/slide" Target="slides/slide76.xml"/><Relationship Id="rId98" Type="http://schemas.openxmlformats.org/officeDocument/2006/relationships/slide" Target="slides/slide77.xml"/><Relationship Id="rId99" Type="http://schemas.openxmlformats.org/officeDocument/2006/relationships/slide" Target="slides/slide78.xml"/><Relationship Id="rId100" Type="http://schemas.openxmlformats.org/officeDocument/2006/relationships/slide" Target="slides/slide79.xml"/><Relationship Id="rId101" Type="http://schemas.openxmlformats.org/officeDocument/2006/relationships/slide" Target="slides/slide80.xml"/><Relationship Id="rId102" Type="http://schemas.openxmlformats.org/officeDocument/2006/relationships/slide" Target="slides/slide81.xml"/><Relationship Id="rId103" Type="http://schemas.openxmlformats.org/officeDocument/2006/relationships/slide" Target="slides/slide82.xml"/><Relationship Id="rId104" Type="http://schemas.openxmlformats.org/officeDocument/2006/relationships/slide" Target="slides/slide83.xml"/><Relationship Id="rId105" Type="http://schemas.openxmlformats.org/officeDocument/2006/relationships/slide" Target="slides/slide84.xml"/><Relationship Id="rId106" Type="http://schemas.openxmlformats.org/officeDocument/2006/relationships/slide" Target="slides/slide85.xml"/><Relationship Id="rId107" Type="http://schemas.openxmlformats.org/officeDocument/2006/relationships/slide" Target="slides/slide86.xml"/><Relationship Id="rId108" Type="http://schemas.openxmlformats.org/officeDocument/2006/relationships/slide" Target="slides/slide87.xml"/><Relationship Id="rId109" Type="http://schemas.openxmlformats.org/officeDocument/2006/relationships/slide" Target="slides/slide88.xml"/><Relationship Id="rId110" Type="http://schemas.openxmlformats.org/officeDocument/2006/relationships/slide" Target="slides/slide89.xml"/><Relationship Id="rId111" Type="http://schemas.openxmlformats.org/officeDocument/2006/relationships/slide" Target="slides/slide90.xml"/><Relationship Id="rId112" Type="http://schemas.openxmlformats.org/officeDocument/2006/relationships/slide" Target="slides/slide91.xml"/><Relationship Id="rId113" Type="http://schemas.openxmlformats.org/officeDocument/2006/relationships/slide" Target="slides/slide92.xml"/><Relationship Id="rId114" Type="http://schemas.openxmlformats.org/officeDocument/2006/relationships/slide" Target="slides/slide93.xml"/><Relationship Id="rId115" Type="http://schemas.openxmlformats.org/officeDocument/2006/relationships/slide" Target="slides/slide94.xml"/><Relationship Id="rId116" Type="http://schemas.openxmlformats.org/officeDocument/2006/relationships/slide" Target="slides/slide95.xml"/><Relationship Id="rId117" Type="http://schemas.openxmlformats.org/officeDocument/2006/relationships/slide" Target="slides/slide96.xml"/><Relationship Id="rId118" Type="http://schemas.openxmlformats.org/officeDocument/2006/relationships/slide" Target="slides/slide97.xml"/><Relationship Id="rId119" Type="http://schemas.openxmlformats.org/officeDocument/2006/relationships/slide" Target="slides/slide98.xml"/><Relationship Id="rId120" Type="http://schemas.openxmlformats.org/officeDocument/2006/relationships/slide" Target="slides/slide99.xml"/><Relationship Id="rId121" Type="http://schemas.openxmlformats.org/officeDocument/2006/relationships/slide" Target="slides/slide100.xml"/><Relationship Id="rId122" Type="http://schemas.openxmlformats.org/officeDocument/2006/relationships/slide" Target="slides/slide101.xml"/><Relationship Id="rId123" Type="http://schemas.openxmlformats.org/officeDocument/2006/relationships/slide" Target="slides/slide102.xml"/><Relationship Id="rId124" Type="http://schemas.openxmlformats.org/officeDocument/2006/relationships/slide" Target="slides/slide103.xml"/><Relationship Id="rId125" Type="http://schemas.openxmlformats.org/officeDocument/2006/relationships/slide" Target="slides/slide104.xml"/><Relationship Id="rId126" Type="http://schemas.openxmlformats.org/officeDocument/2006/relationships/slide" Target="slides/slide105.xml"/><Relationship Id="rId127" Type="http://schemas.openxmlformats.org/officeDocument/2006/relationships/slide" Target="slides/slide106.xml"/><Relationship Id="rId128" Type="http://schemas.openxmlformats.org/officeDocument/2006/relationships/slide" Target="slides/slide107.xml"/><Relationship Id="rId129" Type="http://schemas.openxmlformats.org/officeDocument/2006/relationships/slide" Target="slides/slide108.xml"/><Relationship Id="rId130" Type="http://schemas.openxmlformats.org/officeDocument/2006/relationships/slide" Target="slides/slide109.xml"/><Relationship Id="rId131" Type="http://schemas.openxmlformats.org/officeDocument/2006/relationships/slide" Target="slides/slide110.xml"/><Relationship Id="rId132" Type="http://schemas.openxmlformats.org/officeDocument/2006/relationships/slide" Target="slides/slide111.xml"/><Relationship Id="rId133" Type="http://schemas.openxmlformats.org/officeDocument/2006/relationships/slide" Target="slides/slide112.xml"/><Relationship Id="rId134" Type="http://schemas.openxmlformats.org/officeDocument/2006/relationships/slide" Target="slides/slide113.xml"/><Relationship Id="rId135" Type="http://schemas.openxmlformats.org/officeDocument/2006/relationships/slide" Target="slides/slide114.xml"/><Relationship Id="rId136" Type="http://schemas.openxmlformats.org/officeDocument/2006/relationships/slide" Target="slides/slide115.xml"/><Relationship Id="rId137" Type="http://schemas.openxmlformats.org/officeDocument/2006/relationships/slide" Target="slides/slide116.xml"/><Relationship Id="rId138" Type="http://schemas.openxmlformats.org/officeDocument/2006/relationships/slide" Target="slides/slide117.xml"/><Relationship Id="rId139" Type="http://schemas.openxmlformats.org/officeDocument/2006/relationships/slide" Target="slides/slide118.xml"/><Relationship Id="rId140" Type="http://schemas.openxmlformats.org/officeDocument/2006/relationships/slide" Target="slides/slide119.xml"/><Relationship Id="rId141" Type="http://schemas.openxmlformats.org/officeDocument/2006/relationships/slide" Target="slides/slide120.xml"/><Relationship Id="rId142" Type="http://schemas.openxmlformats.org/officeDocument/2006/relationships/slide" Target="slides/slide121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960-0B80-4005-83D3-F886BD4C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192-8869-4978-8CC9-086154A1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BD2A4-4677-4567-AAC3-A8B7510C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90812-103F-4A73-A548-ECCCE469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9C5B6-8A61-4713-8041-B33B9580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EC5C9-78A8-4C5D-A6EF-9EE4366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5DCE5-6B78-4491-A183-3B7068A7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A8B2C-2281-4124-8F83-3F09CB6D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C3E04-4157-4015-BACF-F37DBA73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1C480-5A3E-43E1-90D5-30089FE7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5CC98-2F70-4E17-8743-FCE23763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6346B-3E63-4E20-9AB5-87828049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908-B029-4442-8AE5-04D0CE4F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1F998-BE90-48CD-8AF4-E200F544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C4F38-B7D0-4C54-B2D5-3E51553F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7D9E6-CAEC-472F-B05C-4B7B28A6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F755C-C1B0-4A00-B99D-354E3ED3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795E1-DA0A-45C6-B935-CF89AC9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EBD1-CD08-4E46-8393-3534243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86599-CD94-45B5-8B67-8055EAD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513BA-FF94-46F1-AF74-65C8C8A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CECEE-FC82-4290-B4D6-44E7034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5E10D-BA02-4F67-B6BD-E963CCD1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712-B23C-43D4-A502-C2F08B11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6AD19-5CE2-498E-8C35-A4F7DE94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36C37-DA5D-438E-BC1E-A7505AEC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CB138-F57D-4479-92E1-5BD23253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B42E2-5291-441D-AFEA-1D61B477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AD8EE-4393-4335-B9A7-9C99BB47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62D12-2D7F-42F1-AC29-68B27B75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DEF20-1851-4B33-8C32-6EA68B31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9DB06-9076-4C37-BC5A-85D6390C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044E3-9270-4B90-96E2-DDD557B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511F5-C6F3-43AA-B91A-46C3FE8D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1516-72C2-4B99-80B4-8614A588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71ECB-A357-4154-A4EC-72477C15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122B3-8CB4-426B-BAFD-2A847DD2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265BE-D270-425B-A993-BDFFF150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1C9EF-78C0-48AE-A3FB-094A3AE6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F86D6-E897-4659-992A-526546E6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B90A5-A817-4958-BFAF-368F7E43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6CF8D-72F9-4C15-BB0B-61F34F3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59745-869D-4C9F-9A20-88ADEF8D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0D8AF-9653-4E3F-B58E-88416F87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E8FE4-4035-47CC-A447-9DEAF1C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59ED-1095-47A4-8D83-5617B507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E2697-15B2-4D34-8647-9507F370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D7CB3-8BDA-4946-9F08-EA8BF1D4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3019A-B205-4CBF-A91A-A285058B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C4A79-D05A-48EF-8E0D-C35179D2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F0783-9644-4250-8568-1A49AECD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DA36F-BB15-4C5C-8A14-B91F87D2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038D6-A5A5-4E09-ADB1-2AB5CBC5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4E56E-BA9E-43FA-B6A9-FEAD38EE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8DF44-F25D-41DD-AB02-36095A9F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C8945-BECA-422A-8915-6DD95484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5BCA-2262-4E70-81F9-2992403F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16AC3-8D76-47D7-9CE8-422FCE6D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1348C-2E27-46D4-B295-FFB17D01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91BEF-C880-49AD-AB2A-8D304E73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E96E5-7E1E-462E-9789-7B100A3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40797-9DD8-406B-83F7-FD666399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74976-36A9-4825-B61B-E9978678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0C218-D078-4A08-AEE4-EE8F7331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9176D-DF0B-4995-A42F-BF6B245E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4B545-732E-421B-94B9-F80A22B4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2710B-C21C-4D2D-9542-EF6E0185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5BA5-4417-43B8-AC1D-689D9E21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C0629-5F1B-4F36-907B-B722548F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2D363-2557-4E3E-9992-DAF8424F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3DD99-305C-490F-9767-07C22AD0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26173-146D-43D1-9F2F-DDCB4E6F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1D6C3-7F6E-4A9B-86DE-711BAFD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8C658-A85D-4994-BCA3-66EEC952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8AF0A-8327-49E8-8765-FED4590F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2D3C4-E2BD-4431-9A6F-C0AC7DBB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3A733-E086-423F-AFFB-C1BE6DC5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98C99-3676-4C37-8E19-87D40219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2A85-8FED-49C2-88BE-500D2EB4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3ECFF-3299-4BC4-B3BD-79B686AD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78E48-E3DD-4CDA-8825-90BA0AFE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E10AC-316E-40AB-803A-E3416F4A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C4352-B862-4241-9B0E-C5D1980E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9EBDB-25D5-468D-AB95-A7338460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88B311-217C-425B-8909-32EB5ED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54F82-D583-48BC-A0DC-05C1774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883B0-6DEB-413A-A622-B23A5B8E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EA7E1-4A43-4C0C-BD1A-D8DFDA67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28E08-30D6-4C20-9708-40E017F3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830E-12AD-4360-AE17-AE0508E1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AFC08-C106-45C8-A166-5D46356A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D132B-DAEE-460B-B2CA-51EF6765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D43760-BDC8-43A1-BC3C-D1F52493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B6F5C-A7BD-4E5C-8F5E-9F839AA2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ED74D-6BEC-4F75-ABCD-76C4C405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DE706-E2D6-4C4D-812D-50C027C4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61A02-6277-4462-AF46-60F17C8F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22280-8F1B-41D1-847F-A98DA396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C08F7-D376-4E43-870E-F697333C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1FCF4-9063-427E-BC12-CACB74A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DA14-369F-4708-BE19-C2E87D83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53354-7F48-4AD7-A303-9F52DD86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B9B0F-9D29-4D9C-8936-8070B22C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8B58C-816E-453B-AF30-7F56A292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CB75F-AE12-40C0-A383-1D9E2950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1BED2-BCC2-4765-9AC5-5880E42C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17519-C535-474F-9C59-4A81E025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739FE-3BD4-4048-81C0-4EBC9A1F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C5D4B-48E6-443A-AAA0-46ED1CB5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AD5F9-DF60-40FE-B371-3838AFBF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C86FF-D26A-45FD-ACF4-9FAE509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916-0C45-49C4-8EBF-9E05D42E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882D-2587-45BE-BB91-C8B693AE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0596E-F665-4504-8CA3-A3E9104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900FF-DE11-4B91-A0D3-4A19E3E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84CAA-841F-4ACE-A12F-13F83BEF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0EF11-F9CC-44CF-B92D-633DE3DD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2E351-B2D2-4550-A513-4CEC0B4F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8780A-DE3A-4009-8A60-E4823BDE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125F2-3EE3-4632-9A40-4C372E38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36E51-3B53-470C-9C1C-7065535F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4DB50-161A-4FD6-AEBD-2CC3A80C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9F1C2-DC4C-4AFC-B0C6-60E069FE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2C58-619E-48F9-B043-17C2CF93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AAFF9-A4AF-4718-9C85-D7D03AAD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4E5BA-038A-4F1A-AD5B-DD7D0B5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DDA75-93B3-4416-9B01-2DC9F833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03A0B3-69ED-49AD-86B6-2E51BA7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E36A5-B9BE-42AE-A10D-66475D03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F1D6A-1A1D-4611-95B0-C8ACED9E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7A785-F2BE-4F20-ACB8-81A7DA53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40358-8722-421A-A519-87F2CDB6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1572D-80AF-4329-8848-FB7072B6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AB3E7-B8AF-4756-B3B0-346FB2A8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9E92-D8CD-43BD-A08A-ED3E67B8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A4CFB9-0E3D-4130-9003-341F1940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2167F-03EA-45FE-8B2E-471B7D85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DD95A-A96A-4D94-B58F-8E14ADC2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A6764-85AB-454A-8B04-5AFCF8D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C5E54-AAE3-4453-BC10-5AFB990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693B89-4BCB-4FD4-A08B-F914E810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28FB96-6A5B-4DA9-903C-CD33460D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30D703-9457-45F2-8F00-888F766A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400B5-84DD-4574-B243-DA37D14E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D460A0-5066-4FF2-B5D0-38EC6A68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4B9A-D6F6-464B-B988-F5FBB870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CDB95-A931-4FB3-9B2E-3437EEAD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89E66-0865-48EF-87BF-40BB41AD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265DC-0120-45F2-A648-6011A365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AEC63-303E-41EC-84E2-6478B432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4F520-EE7B-4299-9272-5C31EB89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3C445-ECB1-42E3-9875-ED51C38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6D23E-BDFC-4594-AC1B-9EF56BA7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D2F156-EC65-431F-ADB6-F7675DC0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712E6-39DC-4324-A535-55209A85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D8F2C-39E5-4AAA-AAFD-D60A27BA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76A9-BA70-4E7E-A91B-9A5F6410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52824-C658-47C4-A0EC-9821AAFE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9E53-A4C4-4C19-8C18-AC4DB8EE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4519-5DC9-4DFE-AEB1-53BD66C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ECEE-C0A6-4844-96C7-AA15A3AF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0EEA-799D-4D06-84CF-C7165443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BDBD3-44EE-412C-A0A4-B0D3DD74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55F-937B-48E8-BF36-03CC1FC9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2487-A1A6-44B4-90CB-DC522DEE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BFF0-4C4D-405A-9B55-B21E1A39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BA97-96D9-4786-BDB8-2F93802B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CADD-8AF0-44D5-A4D2-0D6E2A3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E04B-DD4E-4E7D-B62D-76781A36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C70A-A3DE-4E14-9222-17435015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4A1B-0C73-44BC-9A0D-A40BBB2A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C640-2F67-4AAD-ADDF-B1C59D21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DAD51-DE13-4092-A7C8-A7EB6F67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7C73-827E-4C5F-B1DD-467BA443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62D-38B0-4F08-98F8-BA763740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BFF5-D31C-424A-9BBE-5B0E1C0A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8115-C35D-4F84-9DBD-D74E18DB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CA99C-DEB4-43A9-A873-BD129269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1776-A16C-46DC-809C-BF676762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96F48-0640-42E3-9BFB-5977CA1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50BF-06FD-4726-A1EB-B0067199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2CEEA-20AD-482C-B9D8-9920A7F0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53BD-65A3-4070-8D5C-EB676C1B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DC3E-BA89-4603-894D-4550A077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BC0C-7355-45F7-AA8B-CD543E8C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BA7-0080-4310-AC06-D3CFBCF9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F0E3-265A-468E-B618-023E59F2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5394-A558-4D62-A73E-DF9EB15C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1C63-4362-4681-8D02-F937F64A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C10E-12E4-4740-9D53-2E788F66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F7C0F-436D-4D42-A1BE-545CEE19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2177C-E6BA-405F-843A-14E0782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4730-96FA-41D9-AB9C-B1074082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D107-2665-48D1-ADBA-84DB07AA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7B9C6-089F-4B66-B110-DDB27402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D301-50C2-44E2-8D95-0CA11F37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6E6-0068-4133-84D2-E2A326CF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B426-C9F1-4625-A8D7-FF8D2AF1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707C3-8537-4B9F-83AA-E8E883AE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E1DD-94C2-4D74-911D-D9053AAA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E314-BD1E-4CB5-A96C-DA2F8F05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49883-67A6-4631-9282-64AC6D8F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27667-BEC4-40A7-B9D4-1DAB7BF7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62A9-3086-4ADD-A1E0-C3EEA5A4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0C6FA-1BF1-47B0-BE07-4DA4967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49AE8-71AF-41F3-88B9-745446F8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B2FC-4484-4B87-9703-F21BEF2A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F8D-B0AD-47B9-9A1B-035DAF07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63BF4-AE84-4ABA-A41A-E641F54A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73020-3CB8-4A34-BB4E-9ED46A70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64284-AA94-4556-936E-A4E7C09D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3C49F-2ECD-44FF-AB32-07212F1C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840D-D0AD-4FE5-9947-626D8A85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F286D-8B1E-42A4-97FF-1A731F3D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E903-7A02-4987-BA12-5E96DFB3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C3D82-A84B-4B05-A14D-1CB683A2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914B6-F4ED-4BD3-9453-5E77B99F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A9593-B28D-4293-B4BF-9F4B26A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95C-26AF-483A-942C-203DC97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0056-D423-40C1-B90E-A3341EF9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8741-D593-48F4-90C9-525F8836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F84F-8BD5-4B87-983E-07B16D0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E237A-1C79-4EA4-A665-2270E589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6BA4-06BE-4C3D-999A-6D327063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A6D6A-01E0-42EB-BD4D-F2D048EE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F2363-7518-4080-BB52-A73B7CC3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5CACA-EF47-4B20-A54F-6941E919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67885-6986-4468-BBFB-8560CBF3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D6F8D-889B-4542-B0B2-B29AA222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60F-A33C-476E-AC75-15B1B61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99FB2-D400-4C80-90C2-299E1E95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8AB9E-1D39-44CE-B02C-7ED3EBE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CD9B0-9A5B-4B34-A11B-80CF4ED9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5621A-B4CE-4F68-BC3A-CD6E2C8F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86F02-9C7C-4070-A0D5-6A3FD401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4ADB2-0731-4E0C-A535-C7F8E7BE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6FB69-ADA2-4FE0-A773-3C91A0E4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D11E5-8074-47DC-8979-16656F2F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604DD-8492-47C1-A878-A1EED594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65547-BB74-4356-8AFD-633B7FBC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128A-2A38-45D1-9778-6EA04215A0C5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B02D-B4EF-4206-BEB7-1873D6F115D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840B-6EEF-4507-BEA2-5DF952E5E0EA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A2A8-1CEE-4FDE-889F-E330E17D230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8B10-5034-485D-8021-4856F206E35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7FA8-08CA-4034-ADAC-E6258A3DAF41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FCA4-A52C-4B1A-AED8-D19DAB674C7D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B3E-C73B-4FE8-9814-EA4336E702B0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DEEE-71FF-47F9-90D1-A27538715C2A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27F-36AA-4285-AB9F-86E42149AE9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719B-010E-4E27-A999-593AE4B74448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B9F-5E13-44B0-A0C2-063B085793A0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66D3-0D9C-4C28-A25A-56D1FE11F67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5724-527E-49DD-9C63-8A730B97D36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C184-BD97-4AFE-8066-E9371F87289A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156C-F961-4EAF-855A-76EB5D48402B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E99F-F211-41B2-B10D-9B84DFBBA08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A1C1-B053-4B1A-9B7A-80D5F108C2F3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D0D9-7867-45B1-9C36-874478AD8A9C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7013-A1D8-4340-90E5-1F48A8E3ED4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HEM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lead to health disorders at home and at the workpla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egree of herd immunity required to prevent disease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vari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from disease to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bility of individuals to transmi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length of its contag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ode of transmiss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ize of the coll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the relationships within it (closeness and intensity of contacts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existence of collective immunity can be explained by: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bsence of an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a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yclical variatio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some infectious diseases, especially those transmitted by droplets, that is, by direct contac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oces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lf-regul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epidem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totality of external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living and non-livin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that act on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pecific unit or ecological communit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determining their development and surviv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 (Ecospher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ayer of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rth's cru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including water and air, in which all the living world is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- ge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- bi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cience of the relationship between living beings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surrounds them (other individuals of the same species, flora and fauna and the entire inanimate nature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DICAL (HUMAN) EC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studie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relationships between man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have an impact on healt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1. 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includes inanimat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n-living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- the geosphere (water, oxygen, minerals...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m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ydr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h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ABIOTIC (GEOPHYSICAL) ENVIRONMENT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the non-living environment that affect the distribu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health and dise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demic goi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lack of iodine in so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luoros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tooth damage due to increased F2 content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ung canc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creased emanation of radon from the soil increases the natural radioactivity background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he most important chemical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stic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insec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fung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herb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food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synthetic co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preser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antioxid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dicin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omposition of the soil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ypes of flora and fauna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e way of human nutr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il permeability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water supply, water p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in the karst regions, there is a risk of hydric epidemic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RECT influenc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n the topographical distribution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hanks to the English Channel, there is no rabies i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connection of terrain with river valley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influenc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n the topographical distribution of the disease - The configuration of the terrain determines where the settlement will be buil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fects the degree of air pol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košava in Bel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he location of Sarajevo in the bas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most important for the epidemiological situation are the geographical factors that determine the climatic conditions (latitude, altitude)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lar rad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cip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ffect health DIRECTL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heatstroke, frostbite, "white death"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act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urvival m.o. in the extern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e type of flora and fauna affects the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eservoir and carrier behavior (wintering rode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behavior of other animal species (in the temperate zone of the country they do not bite during the cold perio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ctivity of the man himself (field work, hunting, summer vac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1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Living beings and the relationships they establish with each other (depend on social organization and degree of evolutionary developm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lonies of flies and b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commun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2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IRECT EFF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s or plants lead to disorders of human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ectious disease agents (viruses, rickettsiae, bacteria, fungi, protozoa and multicellular parasi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plants (head of rye, corn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animals (spiders, snak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ypersensitivity to otherwise harmless plants and animals (pollen, feathers, etc.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INDIRECT EFFEC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 reservoirs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probability that ticks transmit Lyme disease depends on the type of vegetation (tall grass), the type and number of animals on whose blood the tick f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choice of profession and the type of economy of the social communit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LUENCE ON PEOPLE'S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the past (plants, animals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malnutrition, dying of hunger and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day, relationships in the human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cio-economic status, available patterns of behavi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ffec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ifestyle (diet, smoking, physical activity, alcohol consumption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behavior (certain habits) has an impact on the structure of illness and death (on national patholog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mmunities affected by rapid social chang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or countries becom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"welfare states"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duced physical activity, increased obesity, more diabetes and heart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1" name=""/>
          <p:cNvGraphicFramePr/>
          <p:nvPr/>
        </p:nvGraphicFramePr>
        <p:xfrm>
          <a:off x="152280" y="152280"/>
          <a:ext cx="8763120" cy="6524640"/>
        </p:xfrm>
        <a:graphic>
          <a:graphicData uri="http://schemas.openxmlformats.org/drawingml/2006/table">
            <a:tbl>
              <a:tblPr/>
              <a:tblGrid>
                <a:gridCol w="1866960"/>
                <a:gridCol w="2933640"/>
                <a:gridCol w="3962520"/>
              </a:tblGrid>
              <a:tr h="1189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AGENT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ON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RGANIC (halogen elements, CO, Pb, Hg, acids, base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 (chloroform, ether, alcohol benzene, phenol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BIOLOGICAL origin (toxic mushroom toxins, alkaloids and glycosides of plant origin, snake venoms, insect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emia, hepatitis coma, diabetic coma, hypoglycemic crisis, hypercholesterolemia, hormonal imbalanc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6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olent destruction of existing social relations (wars, revolution) leads to worsening of the epidemiological situ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BIOLOG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uses of infectious disea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ickett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un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tozo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tazo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aracteristics of living agents on which the emergence of INFECTIOUS diseases depends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xcretion from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ntering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aracteristics of living causative agents on which the occurrence of INFECTIOUS disease depends 2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mmun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ensitivity and resistance to drugs and disinfect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istance in the external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– Chernozubov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Obligate parasites outside the body perish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measles, syphilis, gonorrhea, epidemic mening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They survive outside the body for a while, but do NOT reprod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B bacillu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- Chernozubov 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OUTSIDE THE ORGANISM, under favorable conditions, they RE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. typhoid, paratyphoid, cholera, dysen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4. They survive for a long time in the external environment in the form of SP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naerobic bacteria - causes of tetanus, gas gangrene, botulis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eatures of the biological agent responsible for the occurrence of infectious disea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 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? Physiological characteristic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? The ease with which the disease is TRANSMITTED to other h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? The ability of the agent to PENETRATE the host, MAINTAIN itself and REPLICATE (develop in i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LESSON 3 (THIRD WEEK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log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oir of infectious agents and source of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focal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on. Basic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pollution. Environment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LUENCE OF VIRULENCE AND THE QUANTITY OF GERMS ON THE DISEASE AND EPIDEM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IRULENC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gree of pathogeni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ariable property of microorgani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 and environmental factors alter virulence(S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bility to attenuate virulence is used to produce live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number of passages on artificial feeding groun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ttenuation, retain their antigenic properties (live vaccines - MoRuPar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ppearance, course and outcom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ydric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an incubation period longer than average for a given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subclinical and mild atypical infections than exp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thality lower than a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For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limentary epidem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the opposite is tru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Infectious dose required for certain infectious disease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.000,000 cholera ge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000 germs for t. typh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 germs for dysent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um amount for transmissive and some respirator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gnificant in undertaking preventive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coming into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ontact with a small amount of the causative ag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we prevent the occurrence of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ubclinical infections develop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HOST = reservoir and/or sourc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2514600" y="3352680"/>
            <a:ext cx="4114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ical Triass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4116600" y="114228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230040" y="51048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6901920" y="525708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ESERVOIR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A person, animal, arthropod, plant, soil or substance as well as a combination thereof in which an infectious age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ormally LIV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from which i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be transmitted to a SUSCEPTIBL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habitat of the infectious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ofte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t is a living organism, but it can also be an inanimate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il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ores of tetanus, gas gangrene, anthrax, parasite egg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scarias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t water pipe system (show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conditioning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humidifying condense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3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ecessary component of the life cycle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or more reservoirs involved in the circulation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single host as a reservoir of infection is included in the simplest life cycle mode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4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 infectious agent circulates in nature thanks to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agent from person to pers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most infectious diseases (streptococcal and staphylococcal infections, diphtheria, sexually transmitted diseases, child rash fever, parotitis, typhoid fever, amebia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factor whose presence, abundance or relative absence is a NECESSARY CONDITION for the occurrence of a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n can also be a reservoir for some diseases that are transmitted to him from animals (anthropozoonose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ovine TB (from cow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rucellosis (from cows, pigs, go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ax (from shee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ptospirosis (from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abies (from dogs, foxes, wolves...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6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most complex agent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logically different reservoirs and different developmental stages of the infectious agent (echinococcosis, schistosomiasis and malaria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finitio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person, animal, object or substance from which an infectious agent is TRANSMITTED to a susceptible host at a certain moment and leads to the appearance of a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drinking water contaminated with S. typ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a salad contaminated by an infected coo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MOST IMPORTANT RESERVOIR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"/>
          <p:cNvSpPr/>
          <p:nvPr/>
        </p:nvSpPr>
        <p:spPr>
          <a:xfrm>
            <a:off x="5565600" y="20566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5490360" y="4037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8"/>
          <p:cNvSpPr/>
          <p:nvPr/>
        </p:nvSpPr>
        <p:spPr>
          <a:xfrm flipV="1">
            <a:off x="4038480" y="24379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9"/>
          <p:cNvSpPr/>
          <p:nvPr/>
        </p:nvSpPr>
        <p:spPr>
          <a:xfrm>
            <a:off x="3962520" y="35812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Man as a reservoir of infectious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as a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yconoser as a 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dromal s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severe form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mild form of the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 the prodromal stag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the largest number of germs are excreted, the highest infectiv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atarrhal stage of measles, varicella, rubella, vari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icteric stage in viral hepati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milest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sufficiently expressed symptomatolog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not possible to make an exact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asles (measles, variola, varicella, rubella, scarlet fev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seudomembranes on certain organs (diphtheria, inflamm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tussis (pertuss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ingeal syndrome (epidemic menin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ipheral paralysis (polio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have no epidemiological signific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was mad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solation and treatment set in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n drops sharply and lasts for a short time (viral hepatitis A, pertus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evere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fudroagent, fulminant, malignan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ath occurs before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d a large amount of g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variola (variola conflu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droaiant form of epidemic 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diphtheria c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scarlet f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lgid form of chol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patitis A in pregnant wome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agent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t mutually unrelated agents (alternative effect)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complex of two or more agents (cumulative effect)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ambulatory, abortiv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don't go to the do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is w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re not treate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(ambulatory, abortive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inadequately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aricella, measles, rub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scarlet fever without ra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inflammation without pseudo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ertussis without pri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ambulatory form of typhoid f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ommon diarrhea in dysentery and chol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poliomyelitis with catarrhal changes on 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p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 and git. 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iral hepatitis A in childr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deviate from the characteristic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more intense or mild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se patients are epidemiologically very importa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MAN -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TIEN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NON-MANIFEST form of the disease, the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significance gr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king the diagnos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ARRIERS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cubation 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rriers after an illnes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-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ger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hronic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1/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persons whose infection is inapparent throughout its 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 clinical picture-symptoms and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ads to seroconversion as an objective sign of infec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arise in the case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small number of 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Weakly virulent str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artial (specific or non-specific)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leaves immunity of the same quality as in the case of a manifest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diagnosis is made exclusively in the laboratory (isolation of the causative agent, serological re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ccur if there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sence of dis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Healthy or asymptomatic carrier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It is difficult to distinguish them from non-manifest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Excretion of caus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is short-li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ppear during an epidemic of the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mong the persons in the patient's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those who take care of the s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rarely discovered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ore dangerous than germ carriers after previous illn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*)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seases with a high clinical manifestation index (ICM) do not leave germs even after the disease has passed: Measles, varicella, rubella, variola, influenz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Classifications of agents and their characteristic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umer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mpl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ts can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Phy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Chem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3. Biologic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UNMANIFESTED in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importance is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riers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uring incub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= from the penetration of the infectious agent into the host organism to the first symptoms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Short incubation (cold, flu, bacillary dysentery, SP infection, SF intoxic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Long incubation (AIDS, hepatitis B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What affects incub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as number and virule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st sensi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lace of entry into the body (shorter incubation in tetanus after head and neck injur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 in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INCUBATION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. The patient in incubation is NOT a reservoir of infection (chickenpox, variola, measles, pertussis, flu, typhus, paratypho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2. The patient is a reservoir of infection AT THE END of incubation (parotitis, acute viral respiratory diseases, poliomyelit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The patient is a reservoir of infection during a LONGER PERIOD (hepatitis A - second half of incubation, hepatitis B - several weeks in the second part of incubation, hepatitis C - one or more weeks in the second part of incubation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AN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or acute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ronic germinabil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TER HAVING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CUTE carri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fter clinical recovery, people excrete pathogens for a short time (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ximum 3 month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nvalescent, transitory, temporary especially if there was no adequate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RONIC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athogens even 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fter 3 m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 from a chronic illness (several years or until the end of life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 pathogens even after 3 m. from 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quired diseas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several years or until the end o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y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asional (intermitt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rmanent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acillary dysentery – more m. up to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. typhus and paratyphoid – 2-5% of people; in those with chronic inflammation of the gallbladder, bile duct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 renal pelvis, urinary bladder; can b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fecal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urinary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ore dangero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l tor cholera – r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amonellosis – 1% of adults, 5% of children up to 5 years old; longer tha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CHRONI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hronic inflammation of the mucous membra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SP infections -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patitis B – transplacental transmission, HIV, Down's syndrome, hemodialysis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alaria - untreated or insufficiently treat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alciparum –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vax 1-2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quartana – &gt;3 yea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ome diseases (measles, chicken pox, influenza) there is NO asymptomatic 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valescen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rom an epidemiological point of view,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 can be more dangerou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n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is discovered and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rriers move freely and spread the infection to susceptible peop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nsity (phys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(chem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(biological agen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Si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xcrete a large amount of ger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Q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etc. domestic animals, rod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opozoono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rticularly importa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eases of animal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hat can also affect huma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otspo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the wild (wild anima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human settlements (domestic animals, wild animals -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f all animal diseases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nthropozoonoses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(animal diseases from which humans can get sick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e especi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ronounced clinical sig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animal diseases: anthrax, TB, rab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zoot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 with high mortality: plague, tularemi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commonly infected animals do NOT show any signs of illn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xcrete a huge amount of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o the environ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with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in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rodents... with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ons are often maintaine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zooticall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 free nat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mong wil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domestic animals and synanthropic rodents (mice, ra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nthropozoonoses according to et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Bacterial: anthrax, bovine TB, tularemia, leptospirosis, malleus - sakagia, pla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ral: rabies, psittacosis-ornithosis, слинавка-шап, yellow fever, seasonal encephalitis, viral hemorrhagic feve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Rickettsial: Q - fever and other spot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reckl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rotozoal: toxoplasmosis, schistosomiasis, leishmaniasis, trypanosomi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lminth infections: taeniasis, echinococcosis, trichin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ungal: microsporia, trichophytia, fav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nfections of natural foc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(environment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r less limited areas in free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rmanently inhabited by certain types of organisms that make up the biocenosis (living communit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 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Highly infectious agent → single exposure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Other infectious agents and many non-living agents → larger quantity; longer action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and biocenosis are connected into a unique whole, a system of a higher rank, the so-called ecosystem or geobiocen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FOCU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that, together with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vertebrate ho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(and in the case of transmissible infections, the vector population), in a certain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iotop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connected by food chai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person accidentally exposed to infection during the following activ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resters, soldiers during the camps. and marches hunters, scientific research teams, mountaine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frequency of infection of people staying in a natural hot spot depends 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t spot valences (hungry ticks and ins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umber of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posure length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natural focal infections? funga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viruse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rotozoa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acter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ricketts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helmi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causative agen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n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animal species involved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ingl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-fami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donor and receptors (recip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onor and receptors (recipients) of the causative agent are populations of various specie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wild vertebrat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hosts of the causative agen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vision of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ccording to vecto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sects and spider-like arthropods) that participate in the transmission of pathogen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ngle 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lti-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litting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y siz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ocal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u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reproduction of wild animals, vectors and microorganisms is aff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asonal chang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activity of a natural hotspot (extinguishing or moving away from human settlements) is influe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uman activ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NTHROPURGIC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earch of food, wild animals br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ot spots closer to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lude domestic animals and rodents in the enzoot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rimean-Congo hemorrhagic fev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487692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CHANISM OF MAINTENANC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57200" y="1600200"/>
          <a:ext cx="8229600" cy="222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ion of causative agents in the form of a primary, independent epizootic proces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nsitive anima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or animal (receptor)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ly manifestly ill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inical for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Line 4"/>
          <p:cNvSpPr/>
          <p:nvPr/>
        </p:nvSpPr>
        <p:spPr>
          <a:xfrm flipV="1">
            <a:off x="4343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5"/>
          <p:cNvSpPr/>
          <p:nvPr/>
        </p:nvSpPr>
        <p:spPr>
          <a:xfrm>
            <a:off x="44197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56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vention of natural focal infections? It is based on knowledge of the characteristics of the enzootic process in a specif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izing contact with the reservoir and carrier of pathog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rruption of the circulation of the causative agent in the natural focus (maximum reduction of the number of reservoirs and carrier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emperature (low and hig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onizing rad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chanical agents (mechanical force, sound, shock, vib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lead to inju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work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sports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wa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respirato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digestive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k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sible mucous membran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ONE entry poi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kin - transmissible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gestive tract – most intestinal infectious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MULTIPLE points of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304920" y="1208160"/>
          <a:ext cx="8686800" cy="5661000"/>
        </p:xfrm>
        <a:graphic>
          <a:graphicData uri="http://schemas.openxmlformats.org/drawingml/2006/table">
            <a:tbl>
              <a:tblPr/>
              <a:tblGrid>
                <a:gridCol w="2819160"/>
                <a:gridCol w="2438640"/>
                <a:gridCol w="3429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entry poin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tive agent, diseas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de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trance plac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ptococcal infection, diphtheri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le mucos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sa of the digestive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o viru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of the respiratory trac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x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digestive and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nd macro lesions of the skin and visible mucous membran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ospiro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ane of the digestive tract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Flammable process at the front doo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457200" y="1600200"/>
          <a:ext cx="8229600" cy="510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, bacillary dysentery; cholera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flammatory process is retained exclusively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t the point of entry</a:t>
                      </a:r>
                      <a:r>
                        <a:rPr b="0" lang="sr-Latn-C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SP infection; epidemic mening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s penetrate further into organis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hepat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hanges in the entry site, but in the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rgans for which the causative agent has an affinity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-152640" y="0"/>
            <a:ext cx="9296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PIDEMIOLOGICAL CLASSIFICATION OF IN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DISEAS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(made on the basis of th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MAIN entry point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of the causative ag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0" y="762120"/>
          <a:ext cx="9144000" cy="6126120"/>
        </p:xfrm>
        <a:graphic>
          <a:graphicData uri="http://schemas.openxmlformats.org/drawingml/2006/table">
            <a:tbl>
              <a:tblPr/>
              <a:tblGrid>
                <a:gridCol w="2057400"/>
                <a:gridCol w="70866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les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olds, mumps, whooping cough, scarlet feve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oid fever, paratyphoid A, B, bac. dysentery, vir. hepatitis A, polio, cholera, food poisoning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or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ria, spotted typhus, relapsing typhus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ow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ever, dengue, papatachi fever, leishmaniasis, trypanosomia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unculosis, carbunculosis, phlegmon, impetigo, actinomycosis, trichophytia, favus, erysipela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nd infection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anus, gas gangren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homa, blenorrhea, conjunctivitis of various etiology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e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orrhea, syphilis, HIV infection, viral hepatitis B and C, genital herp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efinition: the tendency of the host to get sick from certain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ries under the influence of various factors, the so-called DISPOSITI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eparate from factors that increase exposure to the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eases are the result of the action of both, so we call them together conditioning factor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 FACTOR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THNIC AND RELIGIOUS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U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OCIO-ECONOMIC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THER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both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position and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ILDREN have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disposition towards the causative agents of poliomyelitis and viral hepatitis A, and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endency towards coliform bacteria and staphylococci; due to undeveloped hygiene habits, they are more exposed to intestinal 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DULTS are more exposed to sexually transmitted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sensitivity and more frequent illness of women from some infectious diseases is a consequence of certain physiological conditions 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struation (+ tuberculin test, can become 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gnancy (infections of the renal pelvis with conditionally pathogenic agents are more common; the clinical picture of viral hepatitis A is more sev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fferences in the frequency of certain diseases in men and women are not only a consequence of biological differences, but also differences in lifestyle, that is, exposure to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raffic trauma has a significant place in the structure of mortality in developed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hysical agents lead to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vidual ill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ss health disorders (nuclear accidents - Chernobyl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acial affili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ften they suffer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uberculosis, syphilis, pertussis – bl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liomyelitis - wh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CES as a result of the influence of other factors (habits, customs, socio-economic conditions), and not biological peculiarities of rac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thnicity and relig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slims are less likely to suffer from trichi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sequence of lifestyle, habits and custom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impact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occupation on disposition is difficult to ass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ttle breeders and veterinarians are more likely to suffer from some anthropozoonoses, and foresters from 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higher frequency of certain infectious diseases among members of certain professions is mainly a consequence of greater expos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cio-economic situ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way of life, living conditions and hygiene hab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improving the economic and hygienic level, the frequency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stinal infectious diseases is reduced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Urbanization with accompanying overcrowd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ilitates the spread of respirator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fectio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e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adequat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ake of proteins and some vitamins (A, S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reases susceptibility to infectious diseas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tarv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reduces the ability to create antibodies as well as the phagocytic ability of leukocyt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ther diseas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ny infectious and non-infectious diseases increase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tendency to oth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non-infectious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bacterial pneum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iabetic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infections caused by pyogenic bac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easles and pertussi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crease susceptibility to bacterial lung infections and activate tuberculosis fo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reduces resistance to inf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umber of changes occur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demics of mening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soldiers after a strenuous march, or more frequent occurrence of clinically manifest form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oliomyel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exhausting play of children infected with the causative agent of this disease, have been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cording to Selye, various stress factors, including fear, strong emotions, trauma, intense exposure to cold or heat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affect the reduction of resistance to infection through the pituitary adrenocortic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OLLECTIVE IMMUNITY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finition: the resistance of a population to certain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dividual immunity reduces the likelihood that an individual will contract a particular disease when exposed to an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llective immunity reduces the probability of an epidemic after the introduction of an agent into a population or collective, regardless of the fact that some people in that population are still susceptibl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measured by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oportion of immun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eople in a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has significance for the epidemic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makes it possible to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edict the cours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epidem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high % of immune individuals in the population reduces the possibility of contac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etween the infected and the suscept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mmune population represents a b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to the spread of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GI</dc:creator>
  <dc:description/>
  <dc:language>en-US</dc:language>
  <cp:lastModifiedBy>OGI</cp:lastModifiedBy>
  <dcterms:modified xsi:type="dcterms:W3CDTF">2023-09-26T10:20:31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